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A09FC-7E19-4440-A317-96CE7082FB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09C38-2CA7-4ACC-8333-157E9700FE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6FA75-6B91-4D7D-9472-EADC0E0DEA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12CD5-98CA-4668-810D-A668704314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A163B-009D-4D60-A3DF-2B08A74993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B5900-019F-4BB5-91F1-7627080A16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88217-B3FA-48DA-A1CB-5CFCD0BDBF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A9BE3-7EAF-4EDA-8700-2952340011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40D03-4C09-4A45-A7A1-7152683554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40E79-CFDD-41E6-B21B-00223E6872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92EDD-AEA3-47B9-A500-9BF385EB5C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9473F-1FFA-473F-9272-3A9BDEC46E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06C24-3B38-4A44-8AF9-8B4D424E94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5BF20-C981-4917-A67B-22889C0899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5993B-556D-4FC9-928A-9CACEFF6F8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FB968-2585-4543-9D01-3E96905A4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13962-CC1E-4035-BD10-1B8119D32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34EA8-73F6-4318-B92F-26773082B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1AF12-99BA-4BBF-B35E-82CC7CB17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A5495-6B82-4686-81D0-F29880A53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30528-2D36-4EAC-A8E9-B7839B8A5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7A56A-3196-4DA0-BF64-455C56955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D727F-2BE5-4935-91FC-574385717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CC8D7-980F-4D33-BDD1-E3344D781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2B230-6282-40F7-99CF-16160FEED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C12EE-3FCB-453B-B444-4FE1A5040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C16CC-7F5D-4C79-AED0-BD87B35D4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13E28-0145-404A-9EED-BBEEBCF341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 startAt="8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circle has a diameter that extends from the point (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, 7) to the point (6,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). To the nearest tenth, what is the radius of the circl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.4 units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.9 un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.5 uni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D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1.0 un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ah walks home from school by walking 8 blocks north and then 6 blocks east.  How much shorter would his walk be if there were a direct path from the school to his house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 startAt="8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.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 bloc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 startAt="8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.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 bloc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 startAt="8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.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 bloc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 startAt="8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.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distance would be the s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76212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did we miss thes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y the point and slope use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 - 3 = 1/2 (x + 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t m = 4 and (-2, 14) in slope-intercept for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8487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rite the equation of the line that goes through points (2, -4) and (1, 0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685800" y="9140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the equation of an undefined line through the point (-4, 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685800" y="9140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slope of the line for the equ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x – 3y = -1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5x – 2y = 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al 2.02 Prerequisi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fore parallel and perpendicular lines, we must know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Arial"/>
              </a:rPr>
              <a:t>SLOP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the slope of the line passing through (-2, 7) and (3, -8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Group 4"/>
          <p:cNvGrpSpPr/>
          <p:nvPr/>
        </p:nvGrpSpPr>
        <p:grpSpPr>
          <a:xfrm>
            <a:off x="1752120" y="838080"/>
            <a:ext cx="6553440" cy="6019560"/>
            <a:chOff x="1752120" y="838080"/>
            <a:chExt cx="6553440" cy="6019560"/>
          </a:xfrm>
        </p:grpSpPr>
        <p:grpSp>
          <p:nvGrpSpPr>
            <p:cNvPr id="54" name="Group 5"/>
            <p:cNvGrpSpPr/>
            <p:nvPr/>
          </p:nvGrpSpPr>
          <p:grpSpPr>
            <a:xfrm>
              <a:off x="1752120" y="1415160"/>
              <a:ext cx="6553440" cy="5442480"/>
              <a:chOff x="1752120" y="1415160"/>
              <a:chExt cx="6553440" cy="5442480"/>
            </a:xfrm>
          </p:grpSpPr>
          <p:grpSp>
            <p:nvGrpSpPr>
              <p:cNvPr id="55" name="Group 6"/>
              <p:cNvGrpSpPr/>
              <p:nvPr/>
            </p:nvGrpSpPr>
            <p:grpSpPr>
              <a:xfrm>
                <a:off x="2372760" y="2023200"/>
                <a:ext cx="4646880" cy="4434120"/>
                <a:chOff x="2372760" y="2023200"/>
                <a:chExt cx="4646880" cy="4434120"/>
              </a:xfrm>
            </p:grpSpPr>
            <p:grpSp>
              <p:nvGrpSpPr>
                <p:cNvPr id="56" name="Group 7"/>
                <p:cNvGrpSpPr/>
                <p:nvPr/>
              </p:nvGrpSpPr>
              <p:grpSpPr>
                <a:xfrm>
                  <a:off x="2372760" y="2023200"/>
                  <a:ext cx="4646880" cy="4402440"/>
                  <a:chOff x="2372760" y="2023200"/>
                  <a:chExt cx="4646880" cy="4402440"/>
                </a:xfrm>
              </p:grpSpPr>
              <p:sp>
                <p:nvSpPr>
                  <p:cNvPr id="57" name="Line 8"/>
                  <p:cNvSpPr/>
                  <p:nvPr/>
                </p:nvSpPr>
                <p:spPr>
                  <a:xfrm flipV="1">
                    <a:off x="2372760" y="2023200"/>
                    <a:ext cx="0" cy="440244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" name="Line 9"/>
                  <p:cNvSpPr/>
                  <p:nvPr/>
                </p:nvSpPr>
                <p:spPr>
                  <a:xfrm flipV="1">
                    <a:off x="2837160" y="2023200"/>
                    <a:ext cx="0" cy="440244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Line 10"/>
                  <p:cNvSpPr/>
                  <p:nvPr/>
                </p:nvSpPr>
                <p:spPr>
                  <a:xfrm flipV="1">
                    <a:off x="3069000" y="2023200"/>
                    <a:ext cx="0" cy="440244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" name="Line 11"/>
                  <p:cNvSpPr/>
                  <p:nvPr/>
                </p:nvSpPr>
                <p:spPr>
                  <a:xfrm flipV="1">
                    <a:off x="3301920" y="2023200"/>
                    <a:ext cx="0" cy="440244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" name="Line 12"/>
                  <p:cNvSpPr/>
                  <p:nvPr/>
                </p:nvSpPr>
                <p:spPr>
                  <a:xfrm flipV="1">
                    <a:off x="3533760" y="2023200"/>
                    <a:ext cx="0" cy="440244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Line 13"/>
                  <p:cNvSpPr/>
                  <p:nvPr/>
                </p:nvSpPr>
                <p:spPr>
                  <a:xfrm flipV="1">
                    <a:off x="3766680" y="2023200"/>
                    <a:ext cx="0" cy="440244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" name="Line 14"/>
                  <p:cNvSpPr/>
                  <p:nvPr/>
                </p:nvSpPr>
                <p:spPr>
                  <a:xfrm flipV="1">
                    <a:off x="4231440" y="2023200"/>
                    <a:ext cx="0" cy="440244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" name="Line 15"/>
                  <p:cNvSpPr/>
                  <p:nvPr/>
                </p:nvSpPr>
                <p:spPr>
                  <a:xfrm flipV="1">
                    <a:off x="4463280" y="2023200"/>
                    <a:ext cx="0" cy="440244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Line 16"/>
                  <p:cNvSpPr/>
                  <p:nvPr/>
                </p:nvSpPr>
                <p:spPr>
                  <a:xfrm flipV="1">
                    <a:off x="4696200" y="2023200"/>
                    <a:ext cx="0" cy="440244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" name="Line 17"/>
                  <p:cNvSpPr/>
                  <p:nvPr/>
                </p:nvSpPr>
                <p:spPr>
                  <a:xfrm flipV="1">
                    <a:off x="4928040" y="2023200"/>
                    <a:ext cx="0" cy="440244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" name="Line 18"/>
                  <p:cNvSpPr/>
                  <p:nvPr/>
                </p:nvSpPr>
                <p:spPr>
                  <a:xfrm flipV="1">
                    <a:off x="5160960" y="2023200"/>
                    <a:ext cx="0" cy="440244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Line 19"/>
                  <p:cNvSpPr/>
                  <p:nvPr/>
                </p:nvSpPr>
                <p:spPr>
                  <a:xfrm flipV="1">
                    <a:off x="5392440" y="2023200"/>
                    <a:ext cx="0" cy="440244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Line 20"/>
                  <p:cNvSpPr/>
                  <p:nvPr/>
                </p:nvSpPr>
                <p:spPr>
                  <a:xfrm flipV="1">
                    <a:off x="5625360" y="2023200"/>
                    <a:ext cx="0" cy="440244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Line 21"/>
                  <p:cNvSpPr/>
                  <p:nvPr/>
                </p:nvSpPr>
                <p:spPr>
                  <a:xfrm flipV="1">
                    <a:off x="5857560" y="2023200"/>
                    <a:ext cx="0" cy="440244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Line 22"/>
                  <p:cNvSpPr/>
                  <p:nvPr/>
                </p:nvSpPr>
                <p:spPr>
                  <a:xfrm flipV="1">
                    <a:off x="6090480" y="2023200"/>
                    <a:ext cx="0" cy="440244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Line 23"/>
                  <p:cNvSpPr/>
                  <p:nvPr/>
                </p:nvSpPr>
                <p:spPr>
                  <a:xfrm flipV="1">
                    <a:off x="6321960" y="2023200"/>
                    <a:ext cx="0" cy="440244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Line 24"/>
                  <p:cNvSpPr/>
                  <p:nvPr/>
                </p:nvSpPr>
                <p:spPr>
                  <a:xfrm flipV="1">
                    <a:off x="6554880" y="2023200"/>
                    <a:ext cx="0" cy="440244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Line 25"/>
                  <p:cNvSpPr/>
                  <p:nvPr/>
                </p:nvSpPr>
                <p:spPr>
                  <a:xfrm flipV="1">
                    <a:off x="6786720" y="2023200"/>
                    <a:ext cx="0" cy="440244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Line 26"/>
                  <p:cNvSpPr/>
                  <p:nvPr/>
                </p:nvSpPr>
                <p:spPr>
                  <a:xfrm flipV="1">
                    <a:off x="7019640" y="2023200"/>
                    <a:ext cx="0" cy="440244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Line 27"/>
                  <p:cNvSpPr/>
                  <p:nvPr/>
                </p:nvSpPr>
                <p:spPr>
                  <a:xfrm flipV="1">
                    <a:off x="3998520" y="2023200"/>
                    <a:ext cx="0" cy="440244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Line 28"/>
                  <p:cNvSpPr/>
                  <p:nvPr/>
                </p:nvSpPr>
                <p:spPr>
                  <a:xfrm flipV="1">
                    <a:off x="2604600" y="2023200"/>
                    <a:ext cx="0" cy="440244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8" name="Group 29"/>
                <p:cNvGrpSpPr/>
                <p:nvPr/>
              </p:nvGrpSpPr>
              <p:grpSpPr>
                <a:xfrm>
                  <a:off x="2405520" y="2023560"/>
                  <a:ext cx="4613760" cy="4433760"/>
                  <a:chOff x="2405520" y="2023560"/>
                  <a:chExt cx="4613760" cy="4433760"/>
                </a:xfrm>
              </p:grpSpPr>
              <p:sp>
                <p:nvSpPr>
                  <p:cNvPr id="79" name="Line 30"/>
                  <p:cNvSpPr/>
                  <p:nvPr/>
                </p:nvSpPr>
                <p:spPr>
                  <a:xfrm>
                    <a:off x="2405520" y="2023560"/>
                    <a:ext cx="4613760" cy="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Line 31"/>
                  <p:cNvSpPr/>
                  <p:nvPr/>
                </p:nvSpPr>
                <p:spPr>
                  <a:xfrm>
                    <a:off x="2405520" y="2466720"/>
                    <a:ext cx="4613760" cy="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Line 32"/>
                  <p:cNvSpPr/>
                  <p:nvPr/>
                </p:nvSpPr>
                <p:spPr>
                  <a:xfrm>
                    <a:off x="2405520" y="2688120"/>
                    <a:ext cx="4613760" cy="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Line 33"/>
                  <p:cNvSpPr/>
                  <p:nvPr/>
                </p:nvSpPr>
                <p:spPr>
                  <a:xfrm>
                    <a:off x="2405520" y="2910240"/>
                    <a:ext cx="4613760" cy="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Line 34"/>
                  <p:cNvSpPr/>
                  <p:nvPr/>
                </p:nvSpPr>
                <p:spPr>
                  <a:xfrm>
                    <a:off x="2405520" y="3131280"/>
                    <a:ext cx="4613760" cy="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Line 35"/>
                  <p:cNvSpPr/>
                  <p:nvPr/>
                </p:nvSpPr>
                <p:spPr>
                  <a:xfrm>
                    <a:off x="2405520" y="3353400"/>
                    <a:ext cx="4613760" cy="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Line 36"/>
                  <p:cNvSpPr/>
                  <p:nvPr/>
                </p:nvSpPr>
                <p:spPr>
                  <a:xfrm>
                    <a:off x="2405520" y="3796920"/>
                    <a:ext cx="4613760" cy="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Line 37"/>
                  <p:cNvSpPr/>
                  <p:nvPr/>
                </p:nvSpPr>
                <p:spPr>
                  <a:xfrm>
                    <a:off x="2405520" y="4018320"/>
                    <a:ext cx="4613760" cy="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" name="Line 38"/>
                  <p:cNvSpPr/>
                  <p:nvPr/>
                </p:nvSpPr>
                <p:spPr>
                  <a:xfrm>
                    <a:off x="2405520" y="4240440"/>
                    <a:ext cx="4613760" cy="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Line 39"/>
                  <p:cNvSpPr/>
                  <p:nvPr/>
                </p:nvSpPr>
                <p:spPr>
                  <a:xfrm>
                    <a:off x="2405520" y="4461480"/>
                    <a:ext cx="4613760" cy="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Line 40"/>
                  <p:cNvSpPr/>
                  <p:nvPr/>
                </p:nvSpPr>
                <p:spPr>
                  <a:xfrm>
                    <a:off x="2405520" y="4683600"/>
                    <a:ext cx="4613760" cy="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Line 41"/>
                  <p:cNvSpPr/>
                  <p:nvPr/>
                </p:nvSpPr>
                <p:spPr>
                  <a:xfrm>
                    <a:off x="2405520" y="4905000"/>
                    <a:ext cx="4613760" cy="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Line 42"/>
                  <p:cNvSpPr/>
                  <p:nvPr/>
                </p:nvSpPr>
                <p:spPr>
                  <a:xfrm>
                    <a:off x="2405520" y="5127120"/>
                    <a:ext cx="4613760" cy="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Line 43"/>
                  <p:cNvSpPr/>
                  <p:nvPr/>
                </p:nvSpPr>
                <p:spPr>
                  <a:xfrm>
                    <a:off x="2405520" y="5348520"/>
                    <a:ext cx="4613760" cy="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Line 44"/>
                  <p:cNvSpPr/>
                  <p:nvPr/>
                </p:nvSpPr>
                <p:spPr>
                  <a:xfrm>
                    <a:off x="2405520" y="5570640"/>
                    <a:ext cx="4613760" cy="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Line 45"/>
                  <p:cNvSpPr/>
                  <p:nvPr/>
                </p:nvSpPr>
                <p:spPr>
                  <a:xfrm>
                    <a:off x="2405520" y="5791680"/>
                    <a:ext cx="4613760" cy="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Line 46"/>
                  <p:cNvSpPr/>
                  <p:nvPr/>
                </p:nvSpPr>
                <p:spPr>
                  <a:xfrm>
                    <a:off x="2405520" y="6013800"/>
                    <a:ext cx="4613760" cy="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Line 47"/>
                  <p:cNvSpPr/>
                  <p:nvPr/>
                </p:nvSpPr>
                <p:spPr>
                  <a:xfrm>
                    <a:off x="2405520" y="6234840"/>
                    <a:ext cx="4613760" cy="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Line 48"/>
                  <p:cNvSpPr/>
                  <p:nvPr/>
                </p:nvSpPr>
                <p:spPr>
                  <a:xfrm>
                    <a:off x="2405520" y="6457320"/>
                    <a:ext cx="4613760" cy="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" name="Line 49"/>
                  <p:cNvSpPr/>
                  <p:nvPr/>
                </p:nvSpPr>
                <p:spPr>
                  <a:xfrm>
                    <a:off x="2405520" y="3574800"/>
                    <a:ext cx="4613760" cy="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Line 50"/>
                  <p:cNvSpPr/>
                  <p:nvPr/>
                </p:nvSpPr>
                <p:spPr>
                  <a:xfrm>
                    <a:off x="2405520" y="2244600"/>
                    <a:ext cx="4613760" cy="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00" name="Line 51"/>
              <p:cNvSpPr/>
              <p:nvPr/>
            </p:nvSpPr>
            <p:spPr>
              <a:xfrm flipH="1">
                <a:off x="1752120" y="4259160"/>
                <a:ext cx="5796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Line 52"/>
              <p:cNvSpPr/>
              <p:nvPr/>
            </p:nvSpPr>
            <p:spPr>
              <a:xfrm flipV="1">
                <a:off x="4713120" y="1415160"/>
                <a:ext cx="0" cy="5442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Text Box 53"/>
              <p:cNvSpPr/>
              <p:nvPr/>
            </p:nvSpPr>
            <p:spPr>
              <a:xfrm>
                <a:off x="7485120" y="3959280"/>
                <a:ext cx="820440" cy="68400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3" name="Text Box 54"/>
            <p:cNvSpPr/>
            <p:nvPr/>
          </p:nvSpPr>
          <p:spPr>
            <a:xfrm>
              <a:off x="4406040" y="838080"/>
              <a:ext cx="641160" cy="78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TextBox 52"/>
          <p:cNvSpPr/>
          <p:nvPr/>
        </p:nvSpPr>
        <p:spPr>
          <a:xfrm>
            <a:off x="914400" y="38088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slope of the following lin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Straight Arrow Connector 54"/>
          <p:cNvCxnSpPr/>
          <p:nvPr/>
        </p:nvCxnSpPr>
        <p:spPr>
          <a:xfrm>
            <a:off x="4113720" y="1981080"/>
            <a:ext cx="1677240" cy="4649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001000" cy="266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rite the equation for a line with a slope of 4 and a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-intercept of -3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ertical and Horizontal L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d the slop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y the slope of x =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Group 5"/>
          <p:cNvGrpSpPr/>
          <p:nvPr/>
        </p:nvGrpSpPr>
        <p:grpSpPr>
          <a:xfrm>
            <a:off x="761760" y="2743200"/>
            <a:ext cx="3353040" cy="3199680"/>
            <a:chOff x="761760" y="2743200"/>
            <a:chExt cx="3353040" cy="3199680"/>
          </a:xfrm>
        </p:grpSpPr>
        <p:grpSp>
          <p:nvGrpSpPr>
            <p:cNvPr id="111" name="Group 6"/>
            <p:cNvGrpSpPr/>
            <p:nvPr/>
          </p:nvGrpSpPr>
          <p:grpSpPr>
            <a:xfrm>
              <a:off x="761760" y="3049560"/>
              <a:ext cx="3353040" cy="2893320"/>
              <a:chOff x="761760" y="3049560"/>
              <a:chExt cx="3353040" cy="2893320"/>
            </a:xfrm>
          </p:grpSpPr>
          <p:grpSp>
            <p:nvGrpSpPr>
              <p:cNvPr id="112" name="Group 7"/>
              <p:cNvGrpSpPr/>
              <p:nvPr/>
            </p:nvGrpSpPr>
            <p:grpSpPr>
              <a:xfrm>
                <a:off x="1079280" y="3372840"/>
                <a:ext cx="2377440" cy="2357280"/>
                <a:chOff x="1079280" y="3372840"/>
                <a:chExt cx="2377440" cy="2357280"/>
              </a:xfrm>
            </p:grpSpPr>
            <p:grpSp>
              <p:nvGrpSpPr>
                <p:cNvPr id="113" name="Group 8"/>
                <p:cNvGrpSpPr/>
                <p:nvPr/>
              </p:nvGrpSpPr>
              <p:grpSpPr>
                <a:xfrm>
                  <a:off x="1079280" y="3372840"/>
                  <a:ext cx="2377440" cy="2340360"/>
                  <a:chOff x="1079280" y="3372840"/>
                  <a:chExt cx="2377440" cy="2340360"/>
                </a:xfrm>
              </p:grpSpPr>
              <p:sp>
                <p:nvSpPr>
                  <p:cNvPr id="114" name="Line 9"/>
                  <p:cNvSpPr/>
                  <p:nvPr/>
                </p:nvSpPr>
                <p:spPr>
                  <a:xfrm flipV="1">
                    <a:off x="1079280" y="3372840"/>
                    <a:ext cx="0" cy="234036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Line 10"/>
                  <p:cNvSpPr/>
                  <p:nvPr/>
                </p:nvSpPr>
                <p:spPr>
                  <a:xfrm flipV="1">
                    <a:off x="1316880" y="3372840"/>
                    <a:ext cx="0" cy="234036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Line 11"/>
                  <p:cNvSpPr/>
                  <p:nvPr/>
                </p:nvSpPr>
                <p:spPr>
                  <a:xfrm flipV="1">
                    <a:off x="1435680" y="3372840"/>
                    <a:ext cx="0" cy="234036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Line 12"/>
                  <p:cNvSpPr/>
                  <p:nvPr/>
                </p:nvSpPr>
                <p:spPr>
                  <a:xfrm flipV="1">
                    <a:off x="1554840" y="3372840"/>
                    <a:ext cx="0" cy="234036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Line 13"/>
                  <p:cNvSpPr/>
                  <p:nvPr/>
                </p:nvSpPr>
                <p:spPr>
                  <a:xfrm flipV="1">
                    <a:off x="1673280" y="3372840"/>
                    <a:ext cx="0" cy="234036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" name="Line 14"/>
                  <p:cNvSpPr/>
                  <p:nvPr/>
                </p:nvSpPr>
                <p:spPr>
                  <a:xfrm flipV="1">
                    <a:off x="1792440" y="3372840"/>
                    <a:ext cx="0" cy="234036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Line 15"/>
                  <p:cNvSpPr/>
                  <p:nvPr/>
                </p:nvSpPr>
                <p:spPr>
                  <a:xfrm flipV="1">
                    <a:off x="2030040" y="3372840"/>
                    <a:ext cx="0" cy="234036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Line 16"/>
                  <p:cNvSpPr/>
                  <p:nvPr/>
                </p:nvSpPr>
                <p:spPr>
                  <a:xfrm flipV="1">
                    <a:off x="2148840" y="3372840"/>
                    <a:ext cx="0" cy="234036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Line 17"/>
                  <p:cNvSpPr/>
                  <p:nvPr/>
                </p:nvSpPr>
                <p:spPr>
                  <a:xfrm flipV="1">
                    <a:off x="2268000" y="3372840"/>
                    <a:ext cx="0" cy="234036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Line 18"/>
                  <p:cNvSpPr/>
                  <p:nvPr/>
                </p:nvSpPr>
                <p:spPr>
                  <a:xfrm flipV="1">
                    <a:off x="2386440" y="3372840"/>
                    <a:ext cx="0" cy="234036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Line 19"/>
                  <p:cNvSpPr/>
                  <p:nvPr/>
                </p:nvSpPr>
                <p:spPr>
                  <a:xfrm flipV="1">
                    <a:off x="2505600" y="3372840"/>
                    <a:ext cx="0" cy="234036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Line 20"/>
                  <p:cNvSpPr/>
                  <p:nvPr/>
                </p:nvSpPr>
                <p:spPr>
                  <a:xfrm flipV="1">
                    <a:off x="2624400" y="3372840"/>
                    <a:ext cx="0" cy="234036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Line 21"/>
                  <p:cNvSpPr/>
                  <p:nvPr/>
                </p:nvSpPr>
                <p:spPr>
                  <a:xfrm flipV="1">
                    <a:off x="2743560" y="3372840"/>
                    <a:ext cx="0" cy="234036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Line 22"/>
                  <p:cNvSpPr/>
                  <p:nvPr/>
                </p:nvSpPr>
                <p:spPr>
                  <a:xfrm flipV="1">
                    <a:off x="2862000" y="3372840"/>
                    <a:ext cx="0" cy="234036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" name="Line 23"/>
                  <p:cNvSpPr/>
                  <p:nvPr/>
                </p:nvSpPr>
                <p:spPr>
                  <a:xfrm flipV="1">
                    <a:off x="2981160" y="3372840"/>
                    <a:ext cx="0" cy="234036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" name="Line 24"/>
                  <p:cNvSpPr/>
                  <p:nvPr/>
                </p:nvSpPr>
                <p:spPr>
                  <a:xfrm flipV="1">
                    <a:off x="3099960" y="3372840"/>
                    <a:ext cx="0" cy="234036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Line 25"/>
                  <p:cNvSpPr/>
                  <p:nvPr/>
                </p:nvSpPr>
                <p:spPr>
                  <a:xfrm flipV="1">
                    <a:off x="3219120" y="3372840"/>
                    <a:ext cx="0" cy="234036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Line 26"/>
                  <p:cNvSpPr/>
                  <p:nvPr/>
                </p:nvSpPr>
                <p:spPr>
                  <a:xfrm flipV="1">
                    <a:off x="3337560" y="3372840"/>
                    <a:ext cx="0" cy="234036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Line 27"/>
                  <p:cNvSpPr/>
                  <p:nvPr/>
                </p:nvSpPr>
                <p:spPr>
                  <a:xfrm flipV="1">
                    <a:off x="3456720" y="3372840"/>
                    <a:ext cx="0" cy="234036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Line 28"/>
                  <p:cNvSpPr/>
                  <p:nvPr/>
                </p:nvSpPr>
                <p:spPr>
                  <a:xfrm flipV="1">
                    <a:off x="1910880" y="3372840"/>
                    <a:ext cx="0" cy="234036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Line 29"/>
                  <p:cNvSpPr/>
                  <p:nvPr/>
                </p:nvSpPr>
                <p:spPr>
                  <a:xfrm flipV="1">
                    <a:off x="1197720" y="3372840"/>
                    <a:ext cx="0" cy="234036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5" name="Group 30"/>
                <p:cNvGrpSpPr/>
                <p:nvPr/>
              </p:nvGrpSpPr>
              <p:grpSpPr>
                <a:xfrm>
                  <a:off x="1095840" y="3373200"/>
                  <a:ext cx="2360520" cy="2356920"/>
                  <a:chOff x="1095840" y="3373200"/>
                  <a:chExt cx="2360520" cy="2356920"/>
                </a:xfrm>
              </p:grpSpPr>
              <p:sp>
                <p:nvSpPr>
                  <p:cNvPr id="136" name="Line 31"/>
                  <p:cNvSpPr/>
                  <p:nvPr/>
                </p:nvSpPr>
                <p:spPr>
                  <a:xfrm>
                    <a:off x="1095840" y="3373200"/>
                    <a:ext cx="2360520" cy="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Line 32"/>
                  <p:cNvSpPr/>
                  <p:nvPr/>
                </p:nvSpPr>
                <p:spPr>
                  <a:xfrm>
                    <a:off x="1095840" y="3608640"/>
                    <a:ext cx="2360520" cy="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Line 33"/>
                  <p:cNvSpPr/>
                  <p:nvPr/>
                </p:nvSpPr>
                <p:spPr>
                  <a:xfrm>
                    <a:off x="1095840" y="3726360"/>
                    <a:ext cx="2360520" cy="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" name="Line 34"/>
                  <p:cNvSpPr/>
                  <p:nvPr/>
                </p:nvSpPr>
                <p:spPr>
                  <a:xfrm>
                    <a:off x="1095840" y="3844440"/>
                    <a:ext cx="2360520" cy="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Line 35"/>
                  <p:cNvSpPr/>
                  <p:nvPr/>
                </p:nvSpPr>
                <p:spPr>
                  <a:xfrm>
                    <a:off x="1095840" y="3962160"/>
                    <a:ext cx="2360520" cy="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Line 36"/>
                  <p:cNvSpPr/>
                  <p:nvPr/>
                </p:nvSpPr>
                <p:spPr>
                  <a:xfrm>
                    <a:off x="1095840" y="4080240"/>
                    <a:ext cx="2360520" cy="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Line 37"/>
                  <p:cNvSpPr/>
                  <p:nvPr/>
                </p:nvSpPr>
                <p:spPr>
                  <a:xfrm>
                    <a:off x="1095840" y="4315680"/>
                    <a:ext cx="2360520" cy="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Line 38"/>
                  <p:cNvSpPr/>
                  <p:nvPr/>
                </p:nvSpPr>
                <p:spPr>
                  <a:xfrm>
                    <a:off x="1095840" y="4433400"/>
                    <a:ext cx="2360520" cy="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Line 39"/>
                  <p:cNvSpPr/>
                  <p:nvPr/>
                </p:nvSpPr>
                <p:spPr>
                  <a:xfrm>
                    <a:off x="1095840" y="4551840"/>
                    <a:ext cx="2360520" cy="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Line 40"/>
                  <p:cNvSpPr/>
                  <p:nvPr/>
                </p:nvSpPr>
                <p:spPr>
                  <a:xfrm>
                    <a:off x="1095840" y="4669200"/>
                    <a:ext cx="2360520" cy="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Line 41"/>
                  <p:cNvSpPr/>
                  <p:nvPr/>
                </p:nvSpPr>
                <p:spPr>
                  <a:xfrm>
                    <a:off x="1095840" y="4787280"/>
                    <a:ext cx="2360520" cy="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Line 42"/>
                  <p:cNvSpPr/>
                  <p:nvPr/>
                </p:nvSpPr>
                <p:spPr>
                  <a:xfrm>
                    <a:off x="1095840" y="4905000"/>
                    <a:ext cx="2360520" cy="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" name="Line 43"/>
                  <p:cNvSpPr/>
                  <p:nvPr/>
                </p:nvSpPr>
                <p:spPr>
                  <a:xfrm>
                    <a:off x="1095840" y="5023080"/>
                    <a:ext cx="2360520" cy="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" name="Line 44"/>
                  <p:cNvSpPr/>
                  <p:nvPr/>
                </p:nvSpPr>
                <p:spPr>
                  <a:xfrm>
                    <a:off x="1095840" y="5140800"/>
                    <a:ext cx="2360520" cy="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" name="Line 45"/>
                  <p:cNvSpPr/>
                  <p:nvPr/>
                </p:nvSpPr>
                <p:spPr>
                  <a:xfrm>
                    <a:off x="1095840" y="5258880"/>
                    <a:ext cx="2360520" cy="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Line 46"/>
                  <p:cNvSpPr/>
                  <p:nvPr/>
                </p:nvSpPr>
                <p:spPr>
                  <a:xfrm>
                    <a:off x="1095840" y="5376240"/>
                    <a:ext cx="2360520" cy="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" name="Line 47"/>
                  <p:cNvSpPr/>
                  <p:nvPr/>
                </p:nvSpPr>
                <p:spPr>
                  <a:xfrm>
                    <a:off x="1095840" y="5494320"/>
                    <a:ext cx="2360520" cy="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Line 48"/>
                  <p:cNvSpPr/>
                  <p:nvPr/>
                </p:nvSpPr>
                <p:spPr>
                  <a:xfrm>
                    <a:off x="1095840" y="5612040"/>
                    <a:ext cx="2360520" cy="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" name="Line 49"/>
                  <p:cNvSpPr/>
                  <p:nvPr/>
                </p:nvSpPr>
                <p:spPr>
                  <a:xfrm>
                    <a:off x="1095840" y="5730120"/>
                    <a:ext cx="2360520" cy="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" name="Line 50"/>
                  <p:cNvSpPr/>
                  <p:nvPr/>
                </p:nvSpPr>
                <p:spPr>
                  <a:xfrm>
                    <a:off x="1095840" y="4197600"/>
                    <a:ext cx="2360520" cy="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" name="Line 51"/>
                  <p:cNvSpPr/>
                  <p:nvPr/>
                </p:nvSpPr>
                <p:spPr>
                  <a:xfrm>
                    <a:off x="1095840" y="3490560"/>
                    <a:ext cx="2360520" cy="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57" name="Line 52"/>
              <p:cNvSpPr/>
              <p:nvPr/>
            </p:nvSpPr>
            <p:spPr>
              <a:xfrm flipH="1">
                <a:off x="761760" y="4561920"/>
                <a:ext cx="2965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Line 53"/>
              <p:cNvSpPr/>
              <p:nvPr/>
            </p:nvSpPr>
            <p:spPr>
              <a:xfrm flipV="1">
                <a:off x="2276640" y="3049560"/>
                <a:ext cx="0" cy="2893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Text Box 54"/>
              <p:cNvSpPr/>
              <p:nvPr/>
            </p:nvSpPr>
            <p:spPr>
              <a:xfrm>
                <a:off x="3695040" y="4402440"/>
                <a:ext cx="419760" cy="36360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0" name="Text Box 55"/>
            <p:cNvSpPr/>
            <p:nvPr/>
          </p:nvSpPr>
          <p:spPr>
            <a:xfrm>
              <a:off x="2119680" y="2743200"/>
              <a:ext cx="327960" cy="4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61" name="Straight Arrow Connector 56"/>
          <p:cNvCxnSpPr/>
          <p:nvPr/>
        </p:nvCxnSpPr>
        <p:spPr>
          <a:xfrm>
            <a:off x="762120" y="4114800"/>
            <a:ext cx="3124800" cy="21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ketch the graph and identify the slope of y = -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Group 5"/>
          <p:cNvGrpSpPr/>
          <p:nvPr/>
        </p:nvGrpSpPr>
        <p:grpSpPr>
          <a:xfrm>
            <a:off x="2057040" y="1523880"/>
            <a:ext cx="5562720" cy="5105160"/>
            <a:chOff x="2057040" y="1523880"/>
            <a:chExt cx="5562720" cy="5105160"/>
          </a:xfrm>
        </p:grpSpPr>
        <p:grpSp>
          <p:nvGrpSpPr>
            <p:cNvPr id="164" name="Group 6"/>
            <p:cNvGrpSpPr/>
            <p:nvPr/>
          </p:nvGrpSpPr>
          <p:grpSpPr>
            <a:xfrm>
              <a:off x="2057040" y="2013120"/>
              <a:ext cx="5562720" cy="4615920"/>
              <a:chOff x="2057040" y="2013120"/>
              <a:chExt cx="5562720" cy="4615920"/>
            </a:xfrm>
          </p:grpSpPr>
          <p:grpSp>
            <p:nvGrpSpPr>
              <p:cNvPr id="165" name="Group 7"/>
              <p:cNvGrpSpPr/>
              <p:nvPr/>
            </p:nvGrpSpPr>
            <p:grpSpPr>
              <a:xfrm>
                <a:off x="2583720" y="2529000"/>
                <a:ext cx="3944520" cy="3760560"/>
                <a:chOff x="2583720" y="2529000"/>
                <a:chExt cx="3944520" cy="3760560"/>
              </a:xfrm>
            </p:grpSpPr>
            <p:grpSp>
              <p:nvGrpSpPr>
                <p:cNvPr id="166" name="Group 8"/>
                <p:cNvGrpSpPr/>
                <p:nvPr/>
              </p:nvGrpSpPr>
              <p:grpSpPr>
                <a:xfrm>
                  <a:off x="2583720" y="2529000"/>
                  <a:ext cx="3944520" cy="3733560"/>
                  <a:chOff x="2583720" y="2529000"/>
                  <a:chExt cx="3944520" cy="3733560"/>
                </a:xfrm>
              </p:grpSpPr>
              <p:sp>
                <p:nvSpPr>
                  <p:cNvPr id="167" name="Line 9"/>
                  <p:cNvSpPr/>
                  <p:nvPr/>
                </p:nvSpPr>
                <p:spPr>
                  <a:xfrm flipV="1">
                    <a:off x="2583720" y="2529000"/>
                    <a:ext cx="0" cy="373356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" name="Line 10"/>
                  <p:cNvSpPr/>
                  <p:nvPr/>
                </p:nvSpPr>
                <p:spPr>
                  <a:xfrm flipV="1">
                    <a:off x="2977920" y="2529000"/>
                    <a:ext cx="0" cy="373356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9" name="Line 11"/>
                  <p:cNvSpPr/>
                  <p:nvPr/>
                </p:nvSpPr>
                <p:spPr>
                  <a:xfrm flipV="1">
                    <a:off x="3174840" y="2529000"/>
                    <a:ext cx="0" cy="373356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" name="Line 12"/>
                  <p:cNvSpPr/>
                  <p:nvPr/>
                </p:nvSpPr>
                <p:spPr>
                  <a:xfrm flipV="1">
                    <a:off x="3372480" y="2529000"/>
                    <a:ext cx="0" cy="373356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Line 13"/>
                  <p:cNvSpPr/>
                  <p:nvPr/>
                </p:nvSpPr>
                <p:spPr>
                  <a:xfrm flipV="1">
                    <a:off x="3569400" y="2529000"/>
                    <a:ext cx="0" cy="373356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Line 14"/>
                  <p:cNvSpPr/>
                  <p:nvPr/>
                </p:nvSpPr>
                <p:spPr>
                  <a:xfrm flipV="1">
                    <a:off x="3767040" y="2529000"/>
                    <a:ext cx="0" cy="373356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" name="Line 15"/>
                  <p:cNvSpPr/>
                  <p:nvPr/>
                </p:nvSpPr>
                <p:spPr>
                  <a:xfrm flipV="1">
                    <a:off x="4161240" y="2529000"/>
                    <a:ext cx="0" cy="373356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4" name="Line 16"/>
                  <p:cNvSpPr/>
                  <p:nvPr/>
                </p:nvSpPr>
                <p:spPr>
                  <a:xfrm flipV="1">
                    <a:off x="4358160" y="2529000"/>
                    <a:ext cx="0" cy="373356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5" name="Line 17"/>
                  <p:cNvSpPr/>
                  <p:nvPr/>
                </p:nvSpPr>
                <p:spPr>
                  <a:xfrm flipV="1">
                    <a:off x="4556160" y="2529000"/>
                    <a:ext cx="0" cy="373356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" name="Line 18"/>
                  <p:cNvSpPr/>
                  <p:nvPr/>
                </p:nvSpPr>
                <p:spPr>
                  <a:xfrm flipV="1">
                    <a:off x="4752720" y="2529000"/>
                    <a:ext cx="0" cy="373356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" name="Line 19"/>
                  <p:cNvSpPr/>
                  <p:nvPr/>
                </p:nvSpPr>
                <p:spPr>
                  <a:xfrm flipV="1">
                    <a:off x="4950360" y="2529000"/>
                    <a:ext cx="0" cy="373356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8" name="Line 20"/>
                  <p:cNvSpPr/>
                  <p:nvPr/>
                </p:nvSpPr>
                <p:spPr>
                  <a:xfrm flipV="1">
                    <a:off x="5146920" y="2529000"/>
                    <a:ext cx="0" cy="373356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9" name="Line 21"/>
                  <p:cNvSpPr/>
                  <p:nvPr/>
                </p:nvSpPr>
                <p:spPr>
                  <a:xfrm flipV="1">
                    <a:off x="5344920" y="2529000"/>
                    <a:ext cx="0" cy="373356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0" name="Line 22"/>
                  <p:cNvSpPr/>
                  <p:nvPr/>
                </p:nvSpPr>
                <p:spPr>
                  <a:xfrm flipV="1">
                    <a:off x="5541840" y="2529000"/>
                    <a:ext cx="0" cy="373356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1" name="Line 23"/>
                  <p:cNvSpPr/>
                  <p:nvPr/>
                </p:nvSpPr>
                <p:spPr>
                  <a:xfrm flipV="1">
                    <a:off x="5739480" y="2529000"/>
                    <a:ext cx="0" cy="373356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2" name="Line 24"/>
                  <p:cNvSpPr/>
                  <p:nvPr/>
                </p:nvSpPr>
                <p:spPr>
                  <a:xfrm flipV="1">
                    <a:off x="5936040" y="2529000"/>
                    <a:ext cx="0" cy="373356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3" name="Line 25"/>
                  <p:cNvSpPr/>
                  <p:nvPr/>
                </p:nvSpPr>
                <p:spPr>
                  <a:xfrm flipV="1">
                    <a:off x="6133680" y="2529000"/>
                    <a:ext cx="0" cy="373356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Line 26"/>
                  <p:cNvSpPr/>
                  <p:nvPr/>
                </p:nvSpPr>
                <p:spPr>
                  <a:xfrm flipV="1">
                    <a:off x="6330600" y="2529000"/>
                    <a:ext cx="0" cy="373356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5" name="Line 27"/>
                  <p:cNvSpPr/>
                  <p:nvPr/>
                </p:nvSpPr>
                <p:spPr>
                  <a:xfrm flipV="1">
                    <a:off x="6528240" y="2529000"/>
                    <a:ext cx="0" cy="373356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6" name="Line 28"/>
                  <p:cNvSpPr/>
                  <p:nvPr/>
                </p:nvSpPr>
                <p:spPr>
                  <a:xfrm flipV="1">
                    <a:off x="3963600" y="2529000"/>
                    <a:ext cx="0" cy="373356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7" name="Line 29"/>
                  <p:cNvSpPr/>
                  <p:nvPr/>
                </p:nvSpPr>
                <p:spPr>
                  <a:xfrm flipV="1">
                    <a:off x="2780280" y="2529000"/>
                    <a:ext cx="0" cy="373356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8" name="Group 30"/>
                <p:cNvGrpSpPr/>
                <p:nvPr/>
              </p:nvGrpSpPr>
              <p:grpSpPr>
                <a:xfrm>
                  <a:off x="2611440" y="2529360"/>
                  <a:ext cx="3916440" cy="3760200"/>
                  <a:chOff x="2611440" y="2529360"/>
                  <a:chExt cx="3916440" cy="3760200"/>
                </a:xfrm>
              </p:grpSpPr>
              <p:sp>
                <p:nvSpPr>
                  <p:cNvPr id="189" name="Line 31"/>
                  <p:cNvSpPr/>
                  <p:nvPr/>
                </p:nvSpPr>
                <p:spPr>
                  <a:xfrm>
                    <a:off x="2611440" y="2529360"/>
                    <a:ext cx="3916440" cy="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" name="Line 32"/>
                  <p:cNvSpPr/>
                  <p:nvPr/>
                </p:nvSpPr>
                <p:spPr>
                  <a:xfrm>
                    <a:off x="2611440" y="2905200"/>
                    <a:ext cx="3916440" cy="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" name="Line 33"/>
                  <p:cNvSpPr/>
                  <p:nvPr/>
                </p:nvSpPr>
                <p:spPr>
                  <a:xfrm>
                    <a:off x="2611440" y="3092760"/>
                    <a:ext cx="3916440" cy="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2" name="Line 34"/>
                  <p:cNvSpPr/>
                  <p:nvPr/>
                </p:nvSpPr>
                <p:spPr>
                  <a:xfrm>
                    <a:off x="2611440" y="3281400"/>
                    <a:ext cx="3916440" cy="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3" name="Line 35"/>
                  <p:cNvSpPr/>
                  <p:nvPr/>
                </p:nvSpPr>
                <p:spPr>
                  <a:xfrm>
                    <a:off x="2611440" y="3468960"/>
                    <a:ext cx="3916440" cy="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4" name="Line 36"/>
                  <p:cNvSpPr/>
                  <p:nvPr/>
                </p:nvSpPr>
                <p:spPr>
                  <a:xfrm>
                    <a:off x="2611440" y="3657240"/>
                    <a:ext cx="3916440" cy="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5" name="Line 37"/>
                  <p:cNvSpPr/>
                  <p:nvPr/>
                </p:nvSpPr>
                <p:spPr>
                  <a:xfrm>
                    <a:off x="2611440" y="4033440"/>
                    <a:ext cx="3916440" cy="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" name="Line 38"/>
                  <p:cNvSpPr/>
                  <p:nvPr/>
                </p:nvSpPr>
                <p:spPr>
                  <a:xfrm>
                    <a:off x="2611440" y="4221000"/>
                    <a:ext cx="3916440" cy="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" name="Line 39"/>
                  <p:cNvSpPr/>
                  <p:nvPr/>
                </p:nvSpPr>
                <p:spPr>
                  <a:xfrm>
                    <a:off x="2611440" y="4409640"/>
                    <a:ext cx="3916440" cy="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8" name="Line 40"/>
                  <p:cNvSpPr/>
                  <p:nvPr/>
                </p:nvSpPr>
                <p:spPr>
                  <a:xfrm>
                    <a:off x="2611440" y="4596840"/>
                    <a:ext cx="3916440" cy="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9" name="Line 41"/>
                  <p:cNvSpPr/>
                  <p:nvPr/>
                </p:nvSpPr>
                <p:spPr>
                  <a:xfrm>
                    <a:off x="2611440" y="4785480"/>
                    <a:ext cx="3916440" cy="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0" name="Line 42"/>
                  <p:cNvSpPr/>
                  <p:nvPr/>
                </p:nvSpPr>
                <p:spPr>
                  <a:xfrm>
                    <a:off x="2611440" y="4973040"/>
                    <a:ext cx="3916440" cy="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1" name="Line 43"/>
                  <p:cNvSpPr/>
                  <p:nvPr/>
                </p:nvSpPr>
                <p:spPr>
                  <a:xfrm>
                    <a:off x="2611440" y="5161320"/>
                    <a:ext cx="3916440" cy="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2" name="Line 44"/>
                  <p:cNvSpPr/>
                  <p:nvPr/>
                </p:nvSpPr>
                <p:spPr>
                  <a:xfrm>
                    <a:off x="2611440" y="5349240"/>
                    <a:ext cx="3916440" cy="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3" name="Line 45"/>
                  <p:cNvSpPr/>
                  <p:nvPr/>
                </p:nvSpPr>
                <p:spPr>
                  <a:xfrm>
                    <a:off x="2611440" y="5537520"/>
                    <a:ext cx="3916440" cy="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" name="Line 46"/>
                  <p:cNvSpPr/>
                  <p:nvPr/>
                </p:nvSpPr>
                <p:spPr>
                  <a:xfrm>
                    <a:off x="2611440" y="5725080"/>
                    <a:ext cx="3916440" cy="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" name="Line 47"/>
                  <p:cNvSpPr/>
                  <p:nvPr/>
                </p:nvSpPr>
                <p:spPr>
                  <a:xfrm>
                    <a:off x="2611440" y="5913720"/>
                    <a:ext cx="3916440" cy="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6" name="Line 48"/>
                  <p:cNvSpPr/>
                  <p:nvPr/>
                </p:nvSpPr>
                <p:spPr>
                  <a:xfrm>
                    <a:off x="2611440" y="6100920"/>
                    <a:ext cx="3916440" cy="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7" name="Line 49"/>
                  <p:cNvSpPr/>
                  <p:nvPr/>
                </p:nvSpPr>
                <p:spPr>
                  <a:xfrm>
                    <a:off x="2611440" y="6289560"/>
                    <a:ext cx="3916440" cy="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" name="Line 50"/>
                  <p:cNvSpPr/>
                  <p:nvPr/>
                </p:nvSpPr>
                <p:spPr>
                  <a:xfrm>
                    <a:off x="2611440" y="3844800"/>
                    <a:ext cx="3916440" cy="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9" name="Line 51"/>
                  <p:cNvSpPr/>
                  <p:nvPr/>
                </p:nvSpPr>
                <p:spPr>
                  <a:xfrm>
                    <a:off x="2611440" y="2716920"/>
                    <a:ext cx="3916440" cy="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10" name="Line 52"/>
              <p:cNvSpPr/>
              <p:nvPr/>
            </p:nvSpPr>
            <p:spPr>
              <a:xfrm flipH="1">
                <a:off x="2057040" y="4425120"/>
                <a:ext cx="49201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Line 53"/>
              <p:cNvSpPr/>
              <p:nvPr/>
            </p:nvSpPr>
            <p:spPr>
              <a:xfrm flipV="1">
                <a:off x="4570560" y="2013120"/>
                <a:ext cx="0" cy="4615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Text Box 54"/>
              <p:cNvSpPr/>
              <p:nvPr/>
            </p:nvSpPr>
            <p:spPr>
              <a:xfrm>
                <a:off x="6923520" y="4170960"/>
                <a:ext cx="696240" cy="57996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3" name="Text Box 55"/>
            <p:cNvSpPr/>
            <p:nvPr/>
          </p:nvSpPr>
          <p:spPr>
            <a:xfrm>
              <a:off x="4309920" y="1523880"/>
              <a:ext cx="544320" cy="66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int-Slope Form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 - y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= m(x - x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0T22:59:26Z</dcterms:created>
  <dc:creator>Sharon Fieldman</dc:creator>
  <dc:description/>
  <dc:language>en-US</dc:language>
  <cp:lastModifiedBy>njamison</cp:lastModifiedBy>
  <dcterms:modified xsi:type="dcterms:W3CDTF">2011-05-04T13:59:22Z</dcterms:modified>
  <cp:revision>13</cp:revision>
  <dc:subject/>
  <dc:title>Goal 2.02 Prerequisite</dc:title>
</cp:coreProperties>
</file>